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560-3868-4601-BFDF-31476491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BC5-6BAA-4482-B56A-350FFACB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E7D-3833-4A1F-B469-BD94FFD1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B3D1-8825-4FC0-B79C-E4AB0B0E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18EE-AED1-421F-8747-62023664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1A4D-58F4-4F19-95A9-602CF5DC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E5B4-95E0-4721-B9F5-A3701EB4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3E6B-8751-46BE-B5E4-5F11F713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E5E2-3057-49A3-8DB7-E745536C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0252-9A23-4702-AC88-BAE06CEE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19D6-ADB9-482D-A8A0-2CC94E32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81E-0FA5-4FFD-93AE-3BCEDE68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46A0-16DB-4161-8CBA-C079262A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553E-FD07-4437-A3FE-3290BBAE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D1C0-A1A0-4716-8DB0-30AB78A9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B2B5-2ADB-41DC-AF1E-0BCA89D7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BED6-9C1F-4508-86F2-A6F01486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03A-1DBD-4AEF-AFFA-47E97F11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AFF-D55E-42EB-8B60-0790B73F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805-B864-42C6-B9B4-FCC256E9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977-619B-418A-AA79-6968A75F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0E9-678E-4148-9CF6-2B5D505B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039B-5ABC-46F7-808D-D61C5F64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D8C-34F2-4B35-B567-005D590D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20F7-2230-47FB-9D38-7709AB3F2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0" descr=""/>
          <p:cNvPicPr/>
          <p:nvPr/>
        </p:nvPicPr>
        <p:blipFill>
          <a:blip r:embed="rId2"/>
          <a:srcRect l="0" t="0" r="63470" b="0"/>
          <a:stretch/>
        </p:blipFill>
        <p:spPr>
          <a:xfrm>
            <a:off x="227160" y="228600"/>
            <a:ext cx="242244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2"/>
          <a:srcRect l="0" t="0" r="63466" b="0"/>
          <a:stretch/>
        </p:blipFill>
        <p:spPr>
          <a:xfrm>
            <a:off x="455760" y="455760"/>
            <a:ext cx="300492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35D0-5311-44C7-995A-3E1F7ACB4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362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&amp;E Plan for Africa RIS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Indica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371600" y="41148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Exper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6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s Ab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AR Quick Win Indi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2209680"/>
          <a:ext cx="7772400" cy="403884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farmers and others who have applied new technologies or management practic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dividuals who received long-term agricultural sector productivity or food security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dividuals who received short-term agricultural sector productivity or food security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“organizations” receivin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members of producer organizations and community based organizations receivin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“organizations” that applied new technologies or management practic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AR Quick Win Indic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2133720"/>
          <a:ext cx="7772400" cy="419076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152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new technologies or management practices in one of the following phases of developm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sear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field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available for trans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286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s of Policies/Regulations/Administrative Procedures in each of the following stages of development…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ed and presented for public/stakeholder consul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ed for legislation/dec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d/ap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ed for which implementation has beg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ublic-private partnerships formed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TF Indicators for Africa RIS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2438280"/>
          <a:ext cx="7772400" cy="37339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rural households benefiting directly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3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vulnerable households benefiting directly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ectares under improved technologies or management practic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keholders implementing risk-reducing practices/actions to improve resilience to climate change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TF Indicators for Africa RIS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2209680"/>
          <a:ext cx="7772400" cy="36576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of incremental sales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margin per unit of land, kilogram, or animal of selected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of new private sector investment in the agriculture sector or food chai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67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mer satisfaction with quantity, quality and timeliness of extension and input supply services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0" name="TextBox 5"/>
          <p:cNvSpPr/>
          <p:nvPr/>
        </p:nvSpPr>
        <p:spPr>
          <a:xfrm>
            <a:off x="685800" y="58672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Custom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Gary Ender</cp:lastModifiedBy>
  <cp:lastPrinted>2004-09-30T16:41:33Z</cp:lastPrinted>
  <dcterms:modified xsi:type="dcterms:W3CDTF">2012-09-04T09:06:33Z</dcterms:modified>
  <cp:revision>151</cp:revision>
  <dc:subject/>
  <dc:title>PowerPoint Presentation</dc:title>
</cp:coreProperties>
</file>